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9294813" cy="1472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295200" cy="147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5265720" y="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66960" y="1104480"/>
            <a:ext cx="7362720" cy="55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1"/>
          </p:nvPr>
        </p:nvSpPr>
        <p:spPr>
          <a:xfrm>
            <a:off x="0" y="1398420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b">
            <a:noAutofit/>
          </a:bodyPr>
          <a:lstStyle>
            <a:lvl1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2"/>
          </p:nvPr>
        </p:nvSpPr>
        <p:spPr>
          <a:xfrm>
            <a:off x="5265720" y="1398420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b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fld id="{75ED7CA1-AE55-4E44-9B48-74E1D709A6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discussion – not academic research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efer to think in pictures so here’s another representation of schoo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w in Wisconsin. The school i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ministrative unit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serves STUDENTS, delivers INSTRUCTION via TEACHERS usually in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reason schools have walls is to provide a place for the administrators to work. The students don’t have to be within those wal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ack at your free associations with the word school. Did you have visions of students and classrooms? Regimentation. Lock-step learn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reason schools have walls is because we expect them to. Schoolrooms are part of our folk wis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we often think of “home schools” as the alternative to “building-centered schools” regardless of whether the school is public, charter, private, or parochial. This piece of Missouri State legislation demonstrates how the classroom concept gets transferred to the hom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do parents prove that their children are receiving regular instruction? By keeping written rec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opping point  - check time.  Am I preaching to the cho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s fast as you can. You’ll have about 2 seconds for each response. Ready?  O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think, just write, OK? Ready?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ear a few of the lis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you are working on those media, on content, on learn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. But for the most part aren’t the customers for your work schools, colleges, universities and busines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, the customer is an agency even though the beneficiary of your work is the lea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agencies that provide access to learning opportunities. What do they look and act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functions obvious or shall we discuss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B44-54FA-4D8A-9C30-B7D5241B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2EB-37C2-46E7-AB60-0FC1DE8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89D-A524-4095-930F-42BBA90F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365-EDD5-47D0-9696-6DC45E3F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DC1E-58D3-4B57-A7EB-46D88266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3F1-CF4C-412C-A1D9-FBA8196D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D75A-9E2D-446E-BEC9-87A3E2FA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C264-3045-4755-9D61-16B5109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1007-BB80-41B0-BBCD-89968DBB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947-B52F-49CC-98AF-5A641C9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B518-25C6-48A3-8488-8BA205E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865-EAD9-4CDA-A109-31388EF0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F5E-8444-4B37-B8F6-067CFB7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C3CD-E3CD-41E6-8D66-92255B5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E559-0E5A-4B81-A40B-BE668AF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BE4D-C376-4575-A9B5-A6FCC255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76E-3560-4E7D-947A-E5E661E0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5106-8EE6-4D78-9244-A5FF8940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9126-CDDD-434D-992A-0FA457D1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9484-1214-4B42-BAE4-21CD630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5188-A486-4A0F-BAFD-78A8C5F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2E5D-9026-42DE-87F1-17F1B5C3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127-147F-4483-9026-088F12E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3B33-161E-4DE2-AD0E-8149DFAB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0AEE-7CEA-4D41-A27B-2A1427C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9897-6583-4222-A7EB-85AA01C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B266-0920-430F-AF03-32F551B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D0A2-2313-4154-BC23-E039556E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DF94-C187-4497-BB8C-C6478912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B761-6A5A-4C6D-A1CA-736B434D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1F2-CEEF-42F0-95E8-84D271B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F31-7305-481F-9C29-9D9F21E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647-CE0D-4224-89AD-49B1F64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E06-E352-4AA3-A108-A5DC5A9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862-CA1F-4016-A245-C188427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5BE-54B8-4D2D-9EA0-BAD72B6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47A0-BEAE-4863-94EF-9988B972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846D-5358-4DB4-9426-4BFD0944F7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9F16-06FC-483F-A0DB-660ABD133F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pi.wi.gov/lbstat/defini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oga.state.mo.us/statutes/C100-199/1670000031.HT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ga.state.mo.us/statutes/C100-199/1670000031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oga.state.mo.us/statutes/C100-199/1670000031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96600" y="1685880"/>
            <a:ext cx="5867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n Educative System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84720" y="3394080"/>
            <a:ext cx="41018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resentation by Liza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earning Option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alo Alto,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www.loopcenter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School Functions Puzzl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3880" y="1730520"/>
            <a:ext cx="6096240" cy="42098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How do we fulfill these functions today?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ormal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-to-Fac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men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Mastery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Certification/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/Student 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ortal (Online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r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or Professional Boards and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In School/Private Sector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ranscripts Kept By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/Private/Relative Da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26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stitution or Open Sourc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http://learn.creativecommons.org/projects/oesearch/oesearch-faq/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How will the Open Educative System fulfill these functions?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ormal Learning………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-to-Face Classes and Courses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ment Testing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Mastery Cert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Certification/Licensing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/Student Counsel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ct Record Keeping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Centers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ortal (Online Resources)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er all educative experie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 available to those who prefer them and those who do not progress in Open Portal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inuously 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ailable in “challenge” format and at completion of cour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vernment or Professional Boards and Associations (no chang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st important and developed function of Educative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ally archived, “owned” by lear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 gov. or Private; non-academic; continuous Open Portal ac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2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Institution or Open 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http://learn.creativecommons.org/projects/oesearch/oesearch-faq/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hool” Defined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school is an administrative unit dedicated to and designed to impart skills and knowledge to students. A school is organized to efficiently deliver sequential instruction from one or more teachers. In most cases, but not always, a school is housed in one or more buildings. Also, multiple schools may be in one building. By statute, a home-based private educational program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 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4200" y="5532480"/>
            <a:ext cx="433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pi.wi.gov/lbstat/defin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ompulsory School Attendenc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arent, guardian or other person in this state having charge, control or custody of a child not enrolled in a public, private, parochial, parish </a:t>
            </a: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ull-time equivalent attendance in a combination of such schools and between the ages of seven years and the compulsory attendance age for the </a:t>
            </a: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distr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sponsible for enrolling the child in a program of academic instruction which complies wit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0120" y="5937120"/>
            <a:ext cx="7795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ga.state.mo.us/statutes/C100-199/167000003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 School” Rules 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at least one thousand hours of </a:t>
            </a:r>
            <a:r>
              <a:rPr b="0" lang="en-US" sz="3200" spc="-1" strike="noStrike">
                <a:solidFill>
                  <a:srgbClr val="009e00"/>
                </a:solidFill>
                <a:latin typeface="Arial"/>
              </a:rPr>
              <a:t>i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 least six hundred hours of which will be in reading, language arts, mathematics, social studies and science or academic courses that are related to the aforementioned </a:t>
            </a:r>
            <a:r>
              <a:rPr b="0" lang="en-US" sz="3200" spc="-1" strike="noStrike">
                <a:solidFill>
                  <a:srgbClr val="009e00"/>
                </a:solidFill>
                <a:latin typeface="Arial"/>
              </a:rPr>
              <a:t>subject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sonant with the pupil's age and ability. At least four hundred of the six hundred hours shall occur at the regular home school </a:t>
            </a:r>
            <a:r>
              <a:rPr b="0" lang="en-US" sz="3200" spc="-1" strike="noStrike">
                <a:solidFill>
                  <a:srgbClr val="009e00"/>
                </a:solidFill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080" y="5918040"/>
            <a:ext cx="7795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ga.state.mo.us/statutes/C100-199/167000003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 School” Rules I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vidence that a child is receiving regular instruction, the parent shall, except as otherwise provided in this sub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Maintain the following recor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 plan book, diary, or other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written rec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ing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su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ught and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gaged in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amples of the child's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academic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 record of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eval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hild's academic progress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Other written, or credible evidence equival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1160" y="5796000"/>
            <a:ext cx="7795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ga.state.mo.us/statutes/C100-199/167000003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ocabulary Review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Arial"/>
              </a:rPr>
              <a:t>Used in Statute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ool, College,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What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onclusions from the 1983 Paper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464840"/>
            <a:ext cx="91440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per concludes that the required technologies have arrived and are affordable. Now the stewards of formal education must update their mindset to avoid being made obsolete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edutai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private, commercial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805040"/>
            <a:ext cx="46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8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ustodial Care/Social Environment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and Physical Ability Appropri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Educational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585792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community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’ll give you a word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rite down the first 5 things that pop into your head. Here’s a practic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 _ _ _ 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cordkeep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&amp; 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Input &amp;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/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92560" y="4638600"/>
            <a:ext cx="522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data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unsel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rson &amp; Small Group Meeting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s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7480" y="4638600"/>
            <a:ext cx="77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medical counseling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chievement Certific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-person Test Administration (Proctored Exam Fac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esks for Paper &amp; Onli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Access from Any School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7480" y="4959360"/>
            <a:ext cx="77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school or university high-tech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arner Placemen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16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-person Test Administration (including Simul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sel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hysical Competency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Access from Any School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4080" y="5180040"/>
            <a:ext cx="779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school or university high-tech classroom, counseling center, laboratory &amp; playing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urriculum Deliver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from Any School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hysical Competency Practice Areas (Laboratories, Stages, Playing Fields, Gardens with Equipment 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Rooms (Small group meet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080" y="5519880"/>
            <a:ext cx="779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school or university high-tech classroom, counseling center, laboratory &amp; playing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urriculum Development (content)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HO (small office, home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Group Meeting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from Any Learning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68480" y="4638600"/>
            <a:ext cx="564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2005 work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mplate for a School Teacher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non ideal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22 through 37 are from a public domain template for elementary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sumptions are imbedded in this appro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an Open Educative System elementary teacher say at the first class mee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1800" y="869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Famil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s, Jan and Su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, J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,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, Fluf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50760" y="2130480"/>
            <a:ext cx="3759840" cy="3116520"/>
            <a:chOff x="4550760" y="2130480"/>
            <a:chExt cx="3759840" cy="3116520"/>
          </a:xfrm>
        </p:grpSpPr>
        <p:cxnSp>
          <p:nvCxnSpPr>
            <p:cNvPr id="281" name="_s16428"/>
            <p:cNvCxnSpPr>
              <a:stCxn id="282" idx="0"/>
              <a:endCxn id="283" idx="3"/>
            </p:cNvCxnSpPr>
            <p:nvPr/>
          </p:nvCxnSpPr>
          <p:spPr>
            <a:xfrm flipV="1" rot="16200000">
              <a:off x="5989320" y="3504240"/>
              <a:ext cx="2212560" cy="6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6426"/>
            <p:cNvCxnSpPr>
              <a:endCxn id="283" idx="1"/>
            </p:cNvCxnSpPr>
            <p:nvPr/>
          </p:nvCxnSpPr>
          <p:spPr>
            <a:xfrm flipH="1" flipV="1" rot="5400000">
              <a:off x="4694400" y="3489840"/>
              <a:ext cx="2193480" cy="76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5" name="_s16424"/>
            <p:cNvCxnSpPr>
              <a:stCxn id="286" idx="0"/>
              <a:endCxn id="283" idx="2"/>
            </p:cNvCxnSpPr>
            <p:nvPr/>
          </p:nvCxnSpPr>
          <p:spPr>
            <a:xfrm flipV="1" rot="16200000">
              <a:off x="6804360" y="2386080"/>
              <a:ext cx="584640" cy="13161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7" name="_s16423"/>
            <p:cNvCxnSpPr/>
            <p:nvPr/>
          </p:nvCxnSpPr>
          <p:spPr>
            <a:xfrm flipH="1" flipV="1" rot="5400000">
              <a:off x="6364800" y="3261240"/>
              <a:ext cx="149040" cy="1800"/>
            </a:xfrm>
            <a:prstGeom prst="bentConnector3">
              <a:avLst>
                <a:gd name="adj1" fmla="val 4915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8" name="_s16422"/>
            <p:cNvCxnSpPr>
              <a:stCxn id="289" idx="0"/>
              <a:endCxn id="283" idx="2"/>
            </p:cNvCxnSpPr>
            <p:nvPr/>
          </p:nvCxnSpPr>
          <p:spPr>
            <a:xfrm flipH="1" flipV="1" rot="5400000">
              <a:off x="5480280" y="2378160"/>
              <a:ext cx="584640" cy="13323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83" name="_s16418"/>
            <p:cNvSpPr/>
            <p:nvPr/>
          </p:nvSpPr>
          <p:spPr>
            <a:xfrm>
              <a:off x="5828760" y="2130480"/>
              <a:ext cx="1219320" cy="603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b and 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6419"/>
            <p:cNvSpPr/>
            <p:nvPr/>
          </p:nvSpPr>
          <p:spPr>
            <a:xfrm>
              <a:off x="455076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6420"/>
            <p:cNvSpPr/>
            <p:nvPr/>
          </p:nvSpPr>
          <p:spPr>
            <a:xfrm>
              <a:off x="58824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z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6421"/>
            <p:cNvSpPr/>
            <p:nvPr/>
          </p:nvSpPr>
          <p:spPr>
            <a:xfrm>
              <a:off x="71982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6425"/>
            <p:cNvSpPr/>
            <p:nvPr/>
          </p:nvSpPr>
          <p:spPr>
            <a:xfrm>
              <a:off x="5155920" y="464400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p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6427"/>
            <p:cNvSpPr/>
            <p:nvPr/>
          </p:nvSpPr>
          <p:spPr>
            <a:xfrm>
              <a:off x="6571080" y="4644000"/>
              <a:ext cx="11142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luf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 here’s the real word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Go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 you the academic and social skills you need to progress to fourth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upportive and fun classroom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you make new friends and discover new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 Subjec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s we cover during third grad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Child reading"/>
          <p:cNvPicPr/>
          <p:nvPr/>
        </p:nvPicPr>
        <p:blipFill>
          <a:blip r:embed="rId1"/>
          <a:stretch/>
        </p:blipFill>
        <p:spPr>
          <a:xfrm>
            <a:off x="4586400" y="2043000"/>
            <a:ext cx="396720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8240" y="2482920"/>
            <a:ext cx="40528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ly describe the topics you will cover this year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Child writing"/>
          <p:cNvPicPr/>
          <p:nvPr/>
        </p:nvPicPr>
        <p:blipFill>
          <a:blip r:embed="rId1"/>
          <a:stretch/>
        </p:blipFill>
        <p:spPr>
          <a:xfrm>
            <a:off x="5049720" y="2098800"/>
            <a:ext cx="299088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t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Calculator, pencil, and paper"/>
          <p:cNvPicPr/>
          <p:nvPr/>
        </p:nvPicPr>
        <p:blipFill>
          <a:blip r:embed="rId1"/>
          <a:stretch/>
        </p:blipFill>
        <p:spPr>
          <a:xfrm>
            <a:off x="5048280" y="2052720"/>
            <a:ext cx="31813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ienc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Microscope, test tubes, and specimen slides"/>
          <p:cNvPicPr/>
          <p:nvPr/>
        </p:nvPicPr>
        <p:blipFill>
          <a:blip r:embed="rId1"/>
          <a:stretch/>
        </p:blipFill>
        <p:spPr>
          <a:xfrm>
            <a:off x="5033880" y="2089080"/>
            <a:ext cx="275112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oci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Globe, map, and telescope"/>
          <p:cNvPicPr/>
          <p:nvPr/>
        </p:nvPicPr>
        <p:blipFill>
          <a:blip r:embed="rId1"/>
          <a:stretch/>
        </p:blipFill>
        <p:spPr>
          <a:xfrm>
            <a:off x="5049720" y="2052720"/>
            <a:ext cx="282600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usic and Ar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usic and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Musical notes"/>
          <p:cNvPicPr/>
          <p:nvPr/>
        </p:nvPicPr>
        <p:blipFill>
          <a:blip r:embed="rId1"/>
          <a:stretch/>
        </p:blipFill>
        <p:spPr>
          <a:xfrm>
            <a:off x="5062680" y="2109960"/>
            <a:ext cx="32162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room Commun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room is a community. In our community, we have rules to help us get along with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 ru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spectful and respon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rganized and follow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e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assign about 45 minutes of homework every night. This includes 20 minutes of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homework packet is due on Fri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extra time to work on your homework, you can go to homework club during recess to work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s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traditional conceptio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us back from realizing the enhanced human learning potential offered by 21st century media. This presentation revisits a vision of future schools first published by the author in 198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ardine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tarts at 9:05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n’t in the classroom by the time the second bell rings, please check in at the school office before coming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tardy four times, the school will contact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ield Trip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ots of fun field trips planned for this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ttend two plays at the Children’s Theater as part of our reading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ple Grove park and take water samples from the river as part of our science unit o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tour a bakery as part of our social studies unit o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01800" y="1671480"/>
            <a:ext cx="3891240" cy="4214880"/>
            <a:chOff x="2701800" y="1671480"/>
            <a:chExt cx="3891240" cy="4214880"/>
          </a:xfrm>
        </p:grpSpPr>
        <p:grpSp>
          <p:nvGrpSpPr>
            <p:cNvPr id="324" name="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325" name=""/>
              <p:cNvSpPr/>
              <p:nvPr/>
            </p:nvSpPr>
            <p:spPr>
              <a:xfrm>
                <a:off x="2714760" y="2532240"/>
                <a:ext cx="3838320" cy="3203280"/>
              </a:xfrm>
              <a:custGeom>
                <a:avLst/>
                <a:gdLst/>
                <a:ahLst/>
                <a:rect l="l" t="t" r="r" b="b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54160" y="5394240"/>
                <a:ext cx="3252960" cy="492120"/>
              </a:xfrm>
              <a:custGeom>
                <a:avLst/>
                <a:gdLst/>
                <a:ahLst/>
                <a:rect l="l" t="t" r="r" b="b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84600" y="1805040"/>
                <a:ext cx="785880" cy="550800"/>
              </a:xfrm>
              <a:custGeom>
                <a:avLst/>
                <a:gdLst/>
                <a:ahLst/>
                <a:rect l="l" t="t" r="r" b="b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62640" y="4148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24440" y="3984480"/>
                <a:ext cx="768240" cy="578160"/>
              </a:xfrm>
              <a:custGeom>
                <a:avLst/>
                <a:gdLst/>
                <a:ahLst/>
                <a:rect l="l" t="t" r="r" b="b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00800" y="2994120"/>
                <a:ext cx="149040" cy="461880"/>
              </a:xfrm>
              <a:custGeom>
                <a:avLst/>
                <a:gdLst/>
                <a:ahLst/>
                <a:rect l="l" t="t" r="r" b="b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48400" y="2801880"/>
                <a:ext cx="330120" cy="569880"/>
              </a:xfrm>
              <a:custGeom>
                <a:avLst/>
                <a:gdLst/>
                <a:ahLst/>
                <a:rect l="l" t="t" r="r" b="b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48480" y="3317760"/>
                <a:ext cx="539640" cy="285840"/>
              </a:xfrm>
              <a:custGeom>
                <a:avLst/>
                <a:gdLst/>
                <a:ahLst/>
                <a:rect l="l" t="t" r="r" b="b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92760" y="3608280"/>
                <a:ext cx="552600" cy="462240"/>
              </a:xfrm>
              <a:custGeom>
                <a:avLst/>
                <a:gdLst/>
                <a:ahLst/>
                <a:rect l="l" t="t" r="r" b="b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91200" y="4303800"/>
                <a:ext cx="501840" cy="374400"/>
              </a:xfrm>
              <a:custGeom>
                <a:avLst/>
                <a:gdLst/>
                <a:ahLst/>
                <a:rect l="l" t="t" r="r" b="b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48400" y="4086360"/>
                <a:ext cx="712800" cy="461880"/>
              </a:xfrm>
              <a:custGeom>
                <a:avLst/>
                <a:gdLst/>
                <a:ahLst/>
                <a:rect l="l" t="t" r="r" b="b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27600" y="4654440"/>
                <a:ext cx="730440" cy="617760"/>
              </a:xfrm>
              <a:custGeom>
                <a:avLst/>
                <a:gdLst/>
                <a:ahLst/>
                <a:rect l="l" t="t" r="r" b="b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13520" y="3467160"/>
                <a:ext cx="455400" cy="264960"/>
              </a:xfrm>
              <a:custGeom>
                <a:avLst/>
                <a:gdLst/>
                <a:ahLst/>
                <a:rect l="l" t="t" r="r" b="b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57720" y="3705120"/>
                <a:ext cx="487440" cy="387360"/>
              </a:xfrm>
              <a:custGeom>
                <a:avLst/>
                <a:gdLst/>
                <a:ahLst/>
                <a:rect l="l" t="t" r="r" b="b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59360" y="4465800"/>
                <a:ext cx="731880" cy="677880"/>
              </a:xfrm>
              <a:custGeom>
                <a:avLst/>
                <a:gdLst/>
                <a:ahLst/>
                <a:rect l="l" t="t" r="r" b="b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35400" y="3065400"/>
                <a:ext cx="1144800" cy="2622600"/>
              </a:xfrm>
              <a:custGeom>
                <a:avLst/>
                <a:gdLst/>
                <a:ahLst/>
                <a:rect l="l" t="t" r="r" b="b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70520" y="326232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54680" y="324324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5080" y="2997360"/>
                <a:ext cx="158760" cy="395280"/>
              </a:xfrm>
              <a:custGeom>
                <a:avLst/>
                <a:gdLst/>
                <a:ahLst/>
                <a:rect l="l" t="t" r="r" b="b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59560" y="3065400"/>
                <a:ext cx="7920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30680" y="3049560"/>
                <a:ext cx="123840" cy="19044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57960" y="3225960"/>
                <a:ext cx="185760" cy="193680"/>
              </a:xfrm>
              <a:custGeom>
                <a:avLst/>
                <a:gdLst/>
                <a:ahLst/>
                <a:rect l="l" t="t" r="r" b="b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438880" y="3451320"/>
                <a:ext cx="114120" cy="1969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35480" y="3579840"/>
                <a:ext cx="223920" cy="19512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33840" y="3732120"/>
                <a:ext cx="306720" cy="169920"/>
              </a:xfrm>
              <a:custGeom>
                <a:avLst/>
                <a:gdLst/>
                <a:ahLst/>
                <a:rect l="l" t="t" r="r" b="b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41960" y="393876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59440" y="4027320"/>
                <a:ext cx="214200" cy="152640"/>
              </a:xfrm>
              <a:custGeom>
                <a:avLst/>
                <a:gdLst/>
                <a:ahLst/>
                <a:rect l="l" t="t" r="r" b="b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99040" y="4678200"/>
                <a:ext cx="144360" cy="13176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54560" y="4521240"/>
                <a:ext cx="125640" cy="18720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46800" y="3987720"/>
                <a:ext cx="135000" cy="20160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4880" y="3446640"/>
                <a:ext cx="84240" cy="29196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60960" y="3600360"/>
                <a:ext cx="266760" cy="127080"/>
              </a:xfrm>
              <a:custGeom>
                <a:avLst/>
                <a:gdLst/>
                <a:ahLst/>
                <a:rect l="l" t="t" r="r" b="b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05440" y="3532320"/>
                <a:ext cx="95400" cy="341280"/>
              </a:xfrm>
              <a:custGeom>
                <a:avLst/>
                <a:gdLst/>
                <a:ahLst/>
                <a:rect l="l" t="t" r="r" b="b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05440" y="3757680"/>
                <a:ext cx="303120" cy="137880"/>
              </a:xfrm>
              <a:custGeom>
                <a:avLst/>
                <a:gdLst/>
                <a:ahLst/>
                <a:rect l="l" t="t" r="r" b="b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07240" y="389880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34040" y="3840120"/>
                <a:ext cx="273240" cy="33012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21280" y="4305240"/>
                <a:ext cx="244440" cy="528840"/>
              </a:xfrm>
              <a:custGeom>
                <a:avLst/>
                <a:gdLst/>
                <a:ahLst/>
                <a:rect l="l" t="t" r="r" b="b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9640" y="4394160"/>
                <a:ext cx="184320" cy="26352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49880" y="4513320"/>
                <a:ext cx="238320" cy="23328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08600" y="4799160"/>
                <a:ext cx="546120" cy="323640"/>
              </a:xfrm>
              <a:custGeom>
                <a:avLst/>
                <a:gdLst/>
                <a:ahLst/>
                <a:rect l="l" t="t" r="r" b="b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83160" y="4513320"/>
                <a:ext cx="46080" cy="183960"/>
              </a:xfrm>
              <a:custGeom>
                <a:avLst/>
                <a:gdLst/>
                <a:ahLst/>
                <a:rect l="l" t="t" r="r" b="b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88120" y="4597560"/>
                <a:ext cx="168120" cy="204480"/>
              </a:xfrm>
              <a:custGeom>
                <a:avLst/>
                <a:gdLst/>
                <a:ahLst/>
                <a:rect l="l" t="t" r="r" b="b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54800" y="4594320"/>
                <a:ext cx="91800" cy="276120"/>
              </a:xfrm>
              <a:custGeom>
                <a:avLst/>
                <a:gdLst/>
                <a:ahLst/>
                <a:rect l="l" t="t" r="r" b="b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80040" y="4875120"/>
                <a:ext cx="17928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34040" y="4957920"/>
                <a:ext cx="250920" cy="24732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7440" y="3254400"/>
                <a:ext cx="65160" cy="312840"/>
              </a:xfrm>
              <a:custGeom>
                <a:avLst/>
                <a:gdLst/>
                <a:ahLst/>
                <a:rect l="l" t="t" r="r" b="b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11760" y="3343320"/>
                <a:ext cx="71640" cy="198360"/>
              </a:xfrm>
              <a:custGeom>
                <a:avLst/>
                <a:gdLst/>
                <a:ahLst/>
                <a:rect l="l" t="t" r="r" b="b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46680" y="3583080"/>
                <a:ext cx="44640" cy="306360"/>
              </a:xfrm>
              <a:custGeom>
                <a:avLst/>
                <a:gdLst/>
                <a:ahLst/>
                <a:rect l="l" t="t" r="r" b="b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43520" y="3673440"/>
                <a:ext cx="98640" cy="204840"/>
              </a:xfrm>
              <a:custGeom>
                <a:avLst/>
                <a:gdLst/>
                <a:ahLst/>
                <a:rect l="l" t="t" r="r" b="b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56200" y="361152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05640" y="3995640"/>
                <a:ext cx="63360" cy="497160"/>
              </a:xfrm>
              <a:custGeom>
                <a:avLst/>
                <a:gdLst/>
                <a:ahLst/>
                <a:rect l="l" t="t" r="r" b="b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3759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48240" y="360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251320" y="408456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10080" y="416880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56120" y="4137120"/>
                <a:ext cx="15876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45120" y="3941640"/>
                <a:ext cx="147600" cy="26532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99200" y="38480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70480" y="4032360"/>
                <a:ext cx="5112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05400" y="3868560"/>
                <a:ext cx="82800" cy="5904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30800" y="3597120"/>
                <a:ext cx="101880" cy="842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03840" y="4621320"/>
                <a:ext cx="60480" cy="34740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1160" y="4668840"/>
                <a:ext cx="155520" cy="195120"/>
              </a:xfrm>
              <a:custGeom>
                <a:avLst/>
                <a:gdLst/>
                <a:ahLst/>
                <a:rect l="l" t="t" r="r" b="b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29280" y="4354560"/>
                <a:ext cx="63720" cy="260280"/>
              </a:xfrm>
              <a:custGeom>
                <a:avLst/>
                <a:gdLst/>
                <a:ahLst/>
                <a:rect l="l" t="t" r="r" b="b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32520" y="4562640"/>
                <a:ext cx="119160" cy="19044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099120" y="48322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43400" y="4646520"/>
                <a:ext cx="111240" cy="15552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27720" y="478008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16560" y="493236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53000" y="308628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91240" y="3127320"/>
                <a:ext cx="38160" cy="14940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5520" y="3081240"/>
                <a:ext cx="33480" cy="9072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38840" y="3048120"/>
                <a:ext cx="46080" cy="12672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7000" y="3235320"/>
                <a:ext cx="75960" cy="100080"/>
              </a:xfrm>
              <a:custGeom>
                <a:avLst/>
                <a:gdLst/>
                <a:ahLst/>
                <a:rect l="l" t="t" r="r" b="b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54680" y="3289320"/>
                <a:ext cx="157320" cy="2001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51320" y="3687840"/>
                <a:ext cx="7956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60840" y="4557600"/>
                <a:ext cx="412560" cy="284400"/>
              </a:xfrm>
              <a:custGeom>
                <a:avLst/>
                <a:gdLst/>
                <a:ahLst/>
                <a:rect l="l" t="t" r="r" b="b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59160" y="4822920"/>
                <a:ext cx="603360" cy="468360"/>
              </a:xfrm>
              <a:custGeom>
                <a:avLst/>
                <a:gdLst/>
                <a:ahLst/>
                <a:rect l="l" t="t" r="r" b="b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01800" y="4314960"/>
                <a:ext cx="631800" cy="438120"/>
              </a:xfrm>
              <a:custGeom>
                <a:avLst/>
                <a:gdLst/>
                <a:ahLst/>
                <a:rect l="l" t="t" r="r" b="b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74840" y="3564000"/>
                <a:ext cx="120960" cy="3506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95800" y="3419640"/>
                <a:ext cx="271440" cy="431640"/>
              </a:xfrm>
              <a:custGeom>
                <a:avLst/>
                <a:gdLst/>
                <a:ahLst/>
                <a:rect l="l" t="t" r="r" b="b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378240" y="3809880"/>
                <a:ext cx="442800" cy="217440"/>
              </a:xfrm>
              <a:custGeom>
                <a:avLst/>
                <a:gdLst/>
                <a:ahLst/>
                <a:rect l="l" t="t" r="r" b="b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6400" y="4030560"/>
                <a:ext cx="45216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294000" y="4392720"/>
                <a:ext cx="588960" cy="349200"/>
              </a:xfrm>
              <a:custGeom>
                <a:avLst/>
                <a:gdLst/>
                <a:ahLst/>
                <a:rect l="l" t="t" r="r" b="b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38320" y="3924360"/>
                <a:ext cx="376560" cy="199800"/>
              </a:xfrm>
              <a:custGeom>
                <a:avLst/>
                <a:gdLst/>
                <a:ahLst/>
                <a:rect l="l" t="t" r="r" b="b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90800" y="4103640"/>
                <a:ext cx="401760" cy="293760"/>
              </a:xfrm>
              <a:custGeom>
                <a:avLst/>
                <a:gdLst/>
                <a:ahLst/>
                <a:rect l="l" t="t" r="r" b="b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28800" y="4680000"/>
                <a:ext cx="603360" cy="512640"/>
              </a:xfrm>
              <a:custGeom>
                <a:avLst/>
                <a:gdLst/>
                <a:ahLst/>
                <a:rect l="l" t="t" r="r" b="b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73520" y="3618000"/>
                <a:ext cx="942840" cy="1944720"/>
              </a:xfrm>
              <a:custGeom>
                <a:avLst/>
                <a:gdLst/>
                <a:ahLst/>
                <a:rect l="l" t="t" r="r" b="b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78320" y="3768840"/>
                <a:ext cx="19188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65360" y="3754440"/>
                <a:ext cx="84240" cy="12708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32240" y="356868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05160" y="3619440"/>
                <a:ext cx="65160" cy="14436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98960" y="3608280"/>
                <a:ext cx="102960" cy="1447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38480" y="373860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24080" y="3911760"/>
                <a:ext cx="93960" cy="14904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55960" y="4010040"/>
                <a:ext cx="183960" cy="14616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9400" y="4124160"/>
                <a:ext cx="252360" cy="12888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62440" y="428148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11600" y="434808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44720" y="4842000"/>
                <a:ext cx="119160" cy="982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71800" y="472140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30560" y="4317840"/>
                <a:ext cx="111240" cy="15408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98920" y="3906720"/>
                <a:ext cx="66600" cy="2224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35280" y="4025880"/>
                <a:ext cx="217440" cy="96840"/>
              </a:xfrm>
              <a:custGeom>
                <a:avLst/>
                <a:gdLst/>
                <a:ahLst/>
                <a:rect l="l" t="t" r="r" b="b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08200" y="3973680"/>
                <a:ext cx="74880" cy="258480"/>
              </a:xfrm>
              <a:custGeom>
                <a:avLst/>
                <a:gdLst/>
                <a:ahLst/>
                <a:rect l="l" t="t" r="r" b="b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06760" y="4143240"/>
                <a:ext cx="249120" cy="106560"/>
              </a:xfrm>
              <a:custGeom>
                <a:avLst/>
                <a:gdLst/>
                <a:ahLst/>
                <a:rect l="l" t="t" r="r" b="b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08200" y="4249800"/>
                <a:ext cx="149400" cy="193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95760" y="4206960"/>
                <a:ext cx="223920" cy="249120"/>
              </a:xfrm>
              <a:custGeom>
                <a:avLst/>
                <a:gdLst/>
                <a:ahLst/>
                <a:rect l="l" t="t" r="r" b="b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19360" y="4557600"/>
                <a:ext cx="203400" cy="401760"/>
              </a:xfrm>
              <a:custGeom>
                <a:avLst/>
                <a:gdLst/>
                <a:ahLst/>
                <a:rect l="l" t="t" r="r" b="b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84600" y="462600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08360" y="4714920"/>
                <a:ext cx="195480" cy="17604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27560" y="4930920"/>
                <a:ext cx="450720" cy="245880"/>
              </a:xfrm>
              <a:custGeom>
                <a:avLst/>
                <a:gdLst/>
                <a:ahLst/>
                <a:rect l="l" t="t" r="r" b="b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60800" y="471492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83040" y="4778280"/>
                <a:ext cx="137880" cy="155520"/>
              </a:xfrm>
              <a:custGeom>
                <a:avLst/>
                <a:gdLst/>
                <a:ahLst/>
                <a:rect l="l" t="t" r="r" b="b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19480" y="4778280"/>
                <a:ext cx="74520" cy="208080"/>
              </a:xfrm>
              <a:custGeom>
                <a:avLst/>
                <a:gdLst/>
                <a:ahLst/>
                <a:rect l="l" t="t" r="r" b="b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09880" y="498960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54160" y="5052960"/>
                <a:ext cx="208080" cy="187200"/>
              </a:xfrm>
              <a:custGeom>
                <a:avLst/>
                <a:gdLst/>
                <a:ahLst/>
                <a:rect l="l" t="t" r="r" b="b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19640" y="3762360"/>
                <a:ext cx="52200" cy="236520"/>
              </a:xfrm>
              <a:custGeom>
                <a:avLst/>
                <a:gdLst/>
                <a:ahLst/>
                <a:rect l="l" t="t" r="r" b="b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48000" y="3830760"/>
                <a:ext cx="60480" cy="14904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76440" y="4011480"/>
                <a:ext cx="38160" cy="23040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56000" y="4081320"/>
                <a:ext cx="81000" cy="152640"/>
              </a:xfrm>
              <a:custGeom>
                <a:avLst/>
                <a:gdLst/>
                <a:ahLst/>
                <a:rect l="l" t="t" r="r" b="b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48160" y="4033800"/>
                <a:ext cx="73080" cy="13644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44760" y="4324320"/>
                <a:ext cx="52560" cy="37476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25960" y="41450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32000" y="4030560"/>
                <a:ext cx="8604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70360" y="439092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00320" y="4454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67160" y="44323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22680" y="4282920"/>
                <a:ext cx="120600" cy="200160"/>
              </a:xfrm>
              <a:custGeom>
                <a:avLst/>
                <a:gdLst/>
                <a:ahLst/>
                <a:rect l="l" t="t" r="r" b="b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7960" y="4211640"/>
                <a:ext cx="46080" cy="10620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08440" y="43513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35440" y="42274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2520" y="402120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43320" y="4799160"/>
                <a:ext cx="46080" cy="26028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70400" y="4834080"/>
                <a:ext cx="12852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08280" y="4594320"/>
                <a:ext cx="52560" cy="199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13320" y="4753080"/>
                <a:ext cx="96840" cy="14436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65520" y="4957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62440" y="4816440"/>
                <a:ext cx="91800" cy="11736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4720" y="4917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06800" y="50338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18040" y="363528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32160" y="3666960"/>
                <a:ext cx="30240" cy="11124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367080" y="3632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52760" y="3606840"/>
                <a:ext cx="39600" cy="950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83000" y="374652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65360" y="3787920"/>
                <a:ext cx="130320" cy="15372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68560" y="408924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24120" y="3967200"/>
                <a:ext cx="1920960" cy="1587600"/>
              </a:xfrm>
              <a:custGeom>
                <a:avLst/>
                <a:gdLst/>
                <a:ahLst/>
                <a:rect l="l" t="t" r="r" b="b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49520" y="3257640"/>
                <a:ext cx="1238400" cy="91260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46440" y="3255840"/>
                <a:ext cx="1238400" cy="91296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45000" y="2800440"/>
                <a:ext cx="252360" cy="104760"/>
              </a:xfrm>
              <a:custGeom>
                <a:avLst/>
                <a:gdLst/>
                <a:ahLst/>
                <a:rect l="l" t="t" r="r" b="b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24480" y="2739960"/>
                <a:ext cx="109440" cy="1652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18160" y="2743200"/>
                <a:ext cx="96840" cy="168120"/>
              </a:xfrm>
              <a:custGeom>
                <a:avLst/>
                <a:gdLst/>
                <a:ahLst/>
                <a:rect l="l" t="t" r="r" b="b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92720" y="292752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63920" y="2727360"/>
                <a:ext cx="206640" cy="399960"/>
              </a:xfrm>
              <a:custGeom>
                <a:avLst/>
                <a:gdLst/>
                <a:ahLst/>
                <a:rect l="l" t="t" r="r" b="b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17920" y="2884320"/>
                <a:ext cx="81000" cy="176400"/>
              </a:xfrm>
              <a:custGeom>
                <a:avLst/>
                <a:gdLst/>
                <a:ahLst/>
                <a:rect l="l" t="t" r="r" b="b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16480" y="2890800"/>
                <a:ext cx="79200" cy="163440"/>
              </a:xfrm>
              <a:custGeom>
                <a:avLst/>
                <a:gdLst/>
                <a:ahLst/>
                <a:rect l="l" t="t" r="r" b="b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81560" y="292896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22720" y="3641760"/>
                <a:ext cx="971640" cy="525600"/>
              </a:xfrm>
              <a:custGeom>
                <a:avLst/>
                <a:gdLst/>
                <a:ahLst/>
                <a:rect l="l" t="t" r="r" b="b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21280" y="3629160"/>
                <a:ext cx="769680" cy="549000"/>
              </a:xfrm>
              <a:custGeom>
                <a:avLst/>
                <a:gdLst/>
                <a:ahLst/>
                <a:rect l="l" t="t" r="r" b="b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75160" y="3913200"/>
                <a:ext cx="277920" cy="247680"/>
              </a:xfrm>
              <a:custGeom>
                <a:avLst/>
                <a:gdLst/>
                <a:ahLst/>
                <a:rect l="l" t="t" r="r" b="b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627360" y="4202280"/>
                <a:ext cx="1919520" cy="71280"/>
              </a:xfrm>
              <a:custGeom>
                <a:avLst/>
                <a:gdLst/>
                <a:ahLst/>
                <a:rect l="l" t="t" r="r" b="b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67360" y="2317680"/>
                <a:ext cx="806400" cy="382680"/>
              </a:xfrm>
              <a:custGeom>
                <a:avLst/>
                <a:gdLst/>
                <a:ahLst/>
                <a:rect l="l" t="t" r="r" b="b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3240" y="3835440"/>
                <a:ext cx="376200" cy="14400"/>
              </a:xfrm>
              <a:custGeom>
                <a:avLst/>
                <a:gdLst/>
                <a:ahLst/>
                <a:rect l="l" t="t" r="r" b="b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0600" y="42498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30600" y="4305240"/>
                <a:ext cx="1901880" cy="1764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32040" y="4362480"/>
                <a:ext cx="1903680" cy="1728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37080" y="4433760"/>
                <a:ext cx="1901880" cy="15840"/>
              </a:xfrm>
              <a:custGeom>
                <a:avLst/>
                <a:gdLst/>
                <a:ahLst/>
                <a:rect l="l" t="t" r="r" b="b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30600" y="4495680"/>
                <a:ext cx="190188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9160" y="455940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29160" y="4622760"/>
                <a:ext cx="190152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35280" y="46800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29160" y="47419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27360" y="48006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30600" y="4856040"/>
                <a:ext cx="1903320" cy="1764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35280" y="4927680"/>
                <a:ext cx="190188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29160" y="4989600"/>
                <a:ext cx="190152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27360" y="504684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30600" y="5102280"/>
                <a:ext cx="1901880" cy="1728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33840" y="517356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27360" y="523548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25920" y="52927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29160" y="53514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32040" y="54198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49800" y="4010040"/>
                <a:ext cx="698400" cy="15840"/>
              </a:xfrm>
              <a:custGeom>
                <a:avLst/>
                <a:gdLst/>
                <a:ahLst/>
                <a:rect l="l" t="t" r="r" b="b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86080" y="4068720"/>
                <a:ext cx="844560" cy="1440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37120" y="4125960"/>
                <a:ext cx="936360" cy="14400"/>
              </a:xfrm>
              <a:custGeom>
                <a:avLst/>
                <a:gdLst/>
                <a:ahLst/>
                <a:rect l="l" t="t" r="r" b="b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22680" y="3716280"/>
                <a:ext cx="158760" cy="15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71920" y="3774960"/>
                <a:ext cx="266760" cy="1440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52760" y="3892680"/>
                <a:ext cx="490680" cy="14040"/>
              </a:xfrm>
              <a:custGeom>
                <a:avLst/>
                <a:gdLst/>
                <a:ahLst/>
                <a:rect l="l" t="t" r="r" b="b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19640" y="3952800"/>
                <a:ext cx="566640" cy="14400"/>
              </a:xfrm>
              <a:custGeom>
                <a:avLst/>
                <a:gdLst/>
                <a:ahLst/>
                <a:rect l="l" t="t" r="r" b="b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68680" y="3819600"/>
                <a:ext cx="270000" cy="320760"/>
              </a:xfrm>
              <a:custGeom>
                <a:avLst/>
                <a:gdLst/>
                <a:ahLst/>
                <a:rect l="l" t="t" r="r" b="b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33840" y="38419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10160" y="384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43560" y="4005360"/>
                <a:ext cx="54000" cy="112680"/>
              </a:xfrm>
              <a:custGeom>
                <a:avLst/>
                <a:gdLst/>
                <a:ahLst/>
                <a:rect l="l" t="t" r="r" b="b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4840" y="400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26000" y="3900600"/>
                <a:ext cx="90360" cy="7596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1320" y="39956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95680" y="389268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489560" y="3987720"/>
              <a:ext cx="9180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83120" y="3610080"/>
              <a:ext cx="1041480" cy="558720"/>
            </a:xfrm>
            <a:custGeom>
              <a:avLst/>
              <a:gdLst/>
              <a:ahLst/>
              <a:rect l="l" t="t" r="r" b="b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1320" y="4203720"/>
              <a:ext cx="55440" cy="1222200"/>
            </a:xfrm>
            <a:custGeom>
              <a:avLst/>
              <a:gdLst/>
              <a:ahLst/>
              <a:rect l="l" t="t" r="r" b="b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98920" y="4216320"/>
              <a:ext cx="55440" cy="1220760"/>
            </a:xfrm>
            <a:custGeom>
              <a:avLst/>
              <a:gdLst/>
              <a:ahLst/>
              <a:rect l="l" t="t" r="r" b="b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2160" y="42163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4167360"/>
              <a:ext cx="2310120" cy="55440"/>
            </a:xfrm>
            <a:custGeom>
              <a:avLst/>
              <a:gdLst/>
              <a:ahLst/>
              <a:rect l="l" t="t" r="r" b="b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7960" y="4251240"/>
              <a:ext cx="24948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30560" y="4259160"/>
              <a:ext cx="250920" cy="3542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9360" y="4264200"/>
              <a:ext cx="24912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43400" y="4272120"/>
              <a:ext cx="247680" cy="35388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46520" y="4656240"/>
              <a:ext cx="249120" cy="630000"/>
            </a:xfrm>
            <a:custGeom>
              <a:avLst/>
              <a:gdLst/>
              <a:ahLst/>
              <a:rect l="l" t="t" r="r" b="b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5880" y="4664160"/>
              <a:ext cx="250920" cy="628560"/>
            </a:xfrm>
            <a:custGeom>
              <a:avLst/>
              <a:gdLst/>
              <a:ahLst/>
              <a:rect l="l" t="t" r="r" b="b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62600" y="4662360"/>
              <a:ext cx="247680" cy="628920"/>
            </a:xfrm>
            <a:custGeom>
              <a:avLst/>
              <a:gdLst/>
              <a:ahLst/>
              <a:rect l="l" t="t" r="r" b="b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45200" y="4672080"/>
              <a:ext cx="249120" cy="628560"/>
            </a:xfrm>
            <a:custGeom>
              <a:avLst/>
              <a:gdLst/>
              <a:ahLst/>
              <a:rect l="l" t="t" r="r" b="b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40040" y="4651200"/>
              <a:ext cx="235080" cy="595440"/>
            </a:xfrm>
            <a:custGeom>
              <a:avLst/>
              <a:gdLst/>
              <a:ahLst/>
              <a:rect l="l" t="t" r="r" b="b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70280" y="469260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90800" y="471168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89360" y="483408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90800" y="4957920"/>
              <a:ext cx="52560" cy="10764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87920" y="50799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65680" y="47149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63880" y="483696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3880" y="495936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0640" y="508176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22640" y="4660920"/>
              <a:ext cx="23508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52880" y="4703760"/>
              <a:ext cx="174600" cy="515880"/>
            </a:xfrm>
            <a:custGeom>
              <a:avLst/>
              <a:gdLst/>
              <a:ahLst/>
              <a:rect l="l" t="t" r="r" b="b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75200" y="47214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7340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73400" y="4968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0520" y="5089680"/>
              <a:ext cx="5364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49720" y="47242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48280" y="48466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48280" y="49705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45040" y="50925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43280" y="426708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73520" y="4287960"/>
              <a:ext cx="173160" cy="26496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25880" y="427356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6120" y="429408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97280" y="43038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95840" y="442584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1800" y="430704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70360" y="44290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312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83120" y="443376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576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6200" y="4435560"/>
              <a:ext cx="5544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54680" y="4657680"/>
              <a:ext cx="23472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84920" y="4699080"/>
              <a:ext cx="174600" cy="517320"/>
            </a:xfrm>
            <a:custGeom>
              <a:avLst/>
              <a:gdLst/>
              <a:ahLst/>
              <a:rect l="l" t="t" r="r" b="b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5440" y="4719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03640" y="484200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496404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00760" y="50878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9960" y="472140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996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79960" y="496584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76720" y="508968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38720" y="4667400"/>
              <a:ext cx="233280" cy="596880"/>
            </a:xfrm>
            <a:custGeom>
              <a:avLst/>
              <a:gdLst/>
              <a:ahLst/>
              <a:rect l="l" t="t" r="r" b="b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8960" y="4708440"/>
              <a:ext cx="173160" cy="517680"/>
            </a:xfrm>
            <a:custGeom>
              <a:avLst/>
              <a:gdLst/>
              <a:ahLst/>
              <a:rect l="l" t="t" r="r" b="b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88040" y="472932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88040" y="48531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88040" y="49752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84800" y="509760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4000" y="47307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62560" y="4854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62560" y="497844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61120" y="51004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57920" y="4275000"/>
              <a:ext cx="234720" cy="304920"/>
            </a:xfrm>
            <a:custGeom>
              <a:avLst/>
              <a:gdLst/>
              <a:ahLst/>
              <a:rect l="l" t="t" r="r" b="b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87800" y="4295880"/>
              <a:ext cx="174600" cy="26496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41960" y="4281480"/>
              <a:ext cx="235080" cy="303120"/>
            </a:xfrm>
            <a:custGeom>
              <a:avLst/>
              <a:gdLst/>
              <a:ahLst/>
              <a:rect l="l" t="t" r="r" b="b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72200" y="4302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1156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10120" y="44337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864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84640" y="4435560"/>
              <a:ext cx="5580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97400" y="43178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95960" y="44416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73720" y="4322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72280" y="44434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0440" y="5537160"/>
              <a:ext cx="1100160" cy="214200"/>
            </a:xfrm>
            <a:custGeom>
              <a:avLst/>
              <a:gdLst/>
              <a:ahLst/>
              <a:rect l="l" t="t" r="r" b="b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11760" y="5324400"/>
              <a:ext cx="1109520" cy="327240"/>
            </a:xfrm>
            <a:custGeom>
              <a:avLst/>
              <a:gdLst/>
              <a:ahLst/>
              <a:rect l="l" t="t" r="r" b="b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35320" y="5560920"/>
              <a:ext cx="1119240" cy="203400"/>
            </a:xfrm>
            <a:custGeom>
              <a:avLst/>
              <a:gdLst/>
              <a:ahLst/>
              <a:rect l="l" t="t" r="r" b="b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82840" y="5340240"/>
              <a:ext cx="1076400" cy="351000"/>
            </a:xfrm>
            <a:custGeom>
              <a:avLst/>
              <a:gdLst/>
              <a:ahLst/>
              <a:rect l="l" t="t" r="r" b="b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06760" y="4651200"/>
              <a:ext cx="416160" cy="70344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48320" y="4719600"/>
              <a:ext cx="129960" cy="281160"/>
            </a:xfrm>
            <a:custGeom>
              <a:avLst/>
              <a:gdLst/>
              <a:ahLst/>
              <a:rect l="l" t="t" r="r" b="b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674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65600" y="486720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22840" y="47401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21400" y="486900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44920" y="4718160"/>
              <a:ext cx="131760" cy="27936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658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65800" y="486720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21240" y="473868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21240" y="486900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30840" y="4632480"/>
              <a:ext cx="42840" cy="717480"/>
            </a:xfrm>
            <a:custGeom>
              <a:avLst/>
              <a:gdLst/>
              <a:ahLst/>
              <a:rect l="l" t="t" r="r" b="b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76720" y="5335560"/>
              <a:ext cx="1001880" cy="476280"/>
            </a:xfrm>
            <a:custGeom>
              <a:avLst/>
              <a:gdLst/>
              <a:ahLst/>
              <a:rect l="l" t="t" r="r" b="b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38720" y="5330880"/>
              <a:ext cx="563400" cy="522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07040" y="5446800"/>
              <a:ext cx="677880" cy="44280"/>
            </a:xfrm>
            <a:custGeom>
              <a:avLst/>
              <a:gdLst/>
              <a:ahLst/>
              <a:rect l="l" t="t" r="r" b="b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35400" y="5564160"/>
              <a:ext cx="849240" cy="42840"/>
            </a:xfrm>
            <a:custGeom>
              <a:avLst/>
              <a:gdLst/>
              <a:ahLst/>
              <a:rect l="l" t="t" r="r" b="b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70240" y="5672160"/>
              <a:ext cx="1011240" cy="50760"/>
            </a:xfrm>
            <a:custGeom>
              <a:avLst/>
              <a:gdLst/>
              <a:ahLst/>
              <a:rect l="l" t="t" r="r" b="b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94320" y="4665600"/>
              <a:ext cx="21960" cy="669960"/>
            </a:xfrm>
            <a:custGeom>
              <a:avLst/>
              <a:gdLst/>
              <a:ahLst/>
              <a:rect l="l" t="t" r="r" b="b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00640" y="4651200"/>
              <a:ext cx="411120" cy="684360"/>
            </a:xfrm>
            <a:custGeom>
              <a:avLst/>
              <a:gdLst/>
              <a:ahLst/>
              <a:rect l="l" t="t" r="r" b="b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56080" y="5032440"/>
              <a:ext cx="106560" cy="247680"/>
            </a:xfrm>
            <a:custGeom>
              <a:avLst/>
              <a:gdLst/>
              <a:ahLst/>
              <a:rect l="l" t="t" r="r" b="b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60760" y="503244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976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5444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73640" y="4626000"/>
              <a:ext cx="465120" cy="738000"/>
            </a:xfrm>
            <a:custGeom>
              <a:avLst/>
              <a:gdLst/>
              <a:ahLst/>
              <a:rect l="l" t="t" r="r" b="b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24560" y="50166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72000" y="501480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32400" y="1671480"/>
              <a:ext cx="61920" cy="676440"/>
            </a:xfrm>
            <a:custGeom>
              <a:avLst/>
              <a:gdLst/>
              <a:ahLst/>
              <a:rect l="l" t="t" r="r" b="b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59240" y="4313160"/>
              <a:ext cx="533520" cy="247680"/>
            </a:xfrm>
            <a:custGeom>
              <a:avLst/>
              <a:gdLst/>
              <a:ahLst/>
              <a:rect l="l" t="t" r="r" b="b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44840" y="4305240"/>
              <a:ext cx="506520" cy="20808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76880" y="4346640"/>
              <a:ext cx="431640" cy="12528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07040" y="3238560"/>
              <a:ext cx="920520" cy="376200"/>
            </a:xfrm>
            <a:custGeom>
              <a:avLst/>
              <a:gdLst/>
              <a:ahLst/>
              <a:rect l="l" t="t" r="r" b="b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06920" y="3610080"/>
              <a:ext cx="754200" cy="558720"/>
            </a:xfrm>
            <a:custGeom>
              <a:avLst/>
              <a:gdLst/>
              <a:ahLst/>
              <a:rect l="l" t="t" r="r" b="b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10000" y="2468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98960" y="350820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60640" y="331776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79800" y="3360600"/>
              <a:ext cx="18432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70440" y="354636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3330720"/>
              <a:ext cx="184320" cy="14256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16480" y="350820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34040" y="371628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0960" y="391644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4120" y="38401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08360" y="3753000"/>
              <a:ext cx="154080" cy="10764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30480" y="3816360"/>
              <a:ext cx="15588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14720" y="372744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7040" y="3170160"/>
              <a:ext cx="520560" cy="196920"/>
            </a:xfrm>
            <a:custGeom>
              <a:avLst/>
              <a:gdLst/>
              <a:ahLst/>
              <a:rect l="l" t="t" r="r" b="b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9920" y="3206880"/>
              <a:ext cx="505080" cy="17280"/>
            </a:xfrm>
            <a:custGeom>
              <a:avLst/>
              <a:gdLst/>
              <a:ahLst/>
              <a:rect l="l" t="t" r="r" b="b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05240" y="3265560"/>
              <a:ext cx="504720" cy="15840"/>
            </a:xfrm>
            <a:custGeom>
              <a:avLst/>
              <a:gdLst/>
              <a:ahLst/>
              <a:rect l="l" t="t" r="r" b="b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05240" y="3325680"/>
              <a:ext cx="503280" cy="15840"/>
            </a:xfrm>
            <a:custGeom>
              <a:avLst/>
              <a:gdLst/>
              <a:ahLst/>
              <a:rect l="l" t="t" r="r" b="b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1480" y="2698920"/>
              <a:ext cx="592200" cy="67464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87960" y="2739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19680" y="275436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25760" y="255744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8760" y="2786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29240" y="288432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21320" y="253044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57600" y="243216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73640" y="2874960"/>
              <a:ext cx="169920" cy="19512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10000" y="2725560"/>
              <a:ext cx="90720" cy="2318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60880" y="2687760"/>
              <a:ext cx="817560" cy="69840"/>
            </a:xfrm>
            <a:custGeom>
              <a:avLst/>
              <a:gdLst/>
              <a:ahLst/>
              <a:rect l="l" t="t" r="r" b="b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76880" y="2908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41680" y="295920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7760" y="367812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84760" y="361800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64040" y="33400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07040" y="3530520"/>
              <a:ext cx="155520" cy="10800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33640" y="395748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65640" y="5384880"/>
              <a:ext cx="901440" cy="231840"/>
            </a:xfrm>
            <a:custGeom>
              <a:avLst/>
              <a:gdLst/>
              <a:ahLst/>
              <a:rect l="l" t="t" r="r" b="b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06880" y="5353200"/>
              <a:ext cx="797040" cy="244440"/>
            </a:xfrm>
            <a:custGeom>
              <a:avLst/>
              <a:gdLst/>
              <a:ahLst/>
              <a:rect l="l" t="t" r="r" b="b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1200" y="18414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11840" y="2143080"/>
              <a:ext cx="295200" cy="195480"/>
            </a:xfrm>
            <a:custGeom>
              <a:avLst/>
              <a:gdLst/>
              <a:ahLst/>
              <a:rect l="l" t="t" r="r" b="b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62360" y="2103480"/>
              <a:ext cx="244440" cy="1252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Approac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6720" y="1644120"/>
            <a:ext cx="690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didn't have a school system and we had to invent something to encourage lear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ould we desig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ngravers MT"/>
              </a:rPr>
              <a:t>Not textbooks, blackboards, desks 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Engravers MT"/>
              </a:rPr>
              <a:t>School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8680" y="5176800"/>
            <a:ext cx="734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za’s Nod to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heoretical Framework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(with the book clo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(with no footno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scover theoretical prede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upporting quotes and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Quotes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come to believe that design inquiry can be characterized as a confluence of three traditions of inqui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What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What would be id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What should become r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son,  H. G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).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a H. Banathy: The Legacy of a Design Conversation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Research and Behavioral Science — Vol.22.3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olumbus.fi/moxi/Reading_material/Whole_Systems_Design/2-Nelson-Banath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ore Giants with shoulders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ney Glaser – Grounded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Leonard – Education and Ecs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ymour Papert – 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Seely Brown – Digital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Dean Brown –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 Montessori – The Montessori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Miller – Liv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hool Functio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functions performed by schools during the 20th centu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Development (cont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dial Care/Soci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2:44:06Z</dcterms:created>
  <dc:creator>Liza Loop</dc:creator>
  <dc:description/>
  <cp:keywords/>
  <dc:language>en-US</dc:language>
  <cp:lastModifiedBy>Liza Loop</cp:lastModifiedBy>
  <dcterms:modified xsi:type="dcterms:W3CDTF">2013-06-23T19:10:28Z</dcterms:modified>
  <cp:revision>17</cp:revision>
  <dc:subject/>
  <dc:title>Why do schools have wall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